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05F-CBFB-4169-9D01-F0301A9F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13D-D63D-4F54-A8A9-DC67B107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0BB-AF68-4D5F-BA67-3C24A7CC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BAD-D29B-4371-AD09-CE129303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F43F-6BA3-4512-8944-62FAD1D8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9EBD-B229-4CEA-A4D0-5F3A255F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E3C8-A432-44E1-B25D-BAC0C574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B53A-C3E0-480E-BAD8-A90CF5C1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4042-A9F7-49E1-A71D-09CCBAC1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E0B2-66BF-4E04-9DD2-AF15FA67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244F-6AB3-4675-AE2E-5CEFD42F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0E7-4E78-47EC-A4DC-35CE89BA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B4AF-7692-44B6-9838-93040E5D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62C4-F059-4760-8C2A-56ED742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5BD1-D6EE-483B-B8D4-58E9D668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EB71-9478-44BB-BDF7-E845DF96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D3CA-339B-4946-BBB9-0E9E56A1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5A1C-92A4-4539-B8EF-1322A8E9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260B2-EE3D-492F-AF69-BF45229D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EC6D-4285-4435-B7EC-FA201B32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3D51-227F-4350-83D3-76B5911B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7E85-4A46-462E-B68B-4CBFF00F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5FE-5A9C-4F4A-B8EE-8CC8A131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D2AB-34D0-4D9B-91F3-65320277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E588-E713-41A5-8766-0E651F0B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FDB5-E10C-483D-9354-511B893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C937-0A5D-4FCE-91D3-E3B904B8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4BC5-A488-4EC7-94C9-690AAD57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F0495-EEF1-439E-89B2-F9023EB8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45162-25D2-463B-9FDE-B1CF3077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4B03C-2597-432F-B7C2-C83ECE1E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D2A21-2114-4570-B382-3BC6589C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3EF08-D1C9-4B7A-9E05-48DF1726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063-4D08-459F-A8F0-AF10874F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4B70-B5E3-462E-BFF5-CAE609DD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5A3C-E360-4B56-B7C9-2BB28638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C3BDF-7ABC-468B-ADD5-AC06C1BA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3011-A6BD-43E3-80A0-FF7A2067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87B4-4F30-40A1-AC2D-C6618398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7B419-B440-45A7-BBF3-4429208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81F9-AAF8-4A86-9724-7AF1E105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48A12-3E02-41B9-BC19-71A6D088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99F2F-23CC-4832-99F2-A474DFAE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633FC-8010-4E36-9703-D81517A6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DA3-861E-4E9B-A4FC-DA053B54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AD16-8CAA-43E7-BB6A-AC687C01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8B8EC-42A6-40E2-BD09-41C681DB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83FBF-0248-4398-83C8-80D2878D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6BB59-FE46-4643-A922-69025898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83C36-D2CF-4892-B77B-A03EA133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5FC1-6CF1-4F9E-ABB0-3C17E496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AC3F2-D5A6-4F0B-99F4-28510EDE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19BE-CDA4-4B00-900F-98E094B0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BE5AF-B2BC-4DAB-A2A6-40B3D979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23430-35B6-4497-ABE3-0F0DCCA4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E29-EB17-4506-A86D-8FE6207D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25E2F-B55B-4888-BF12-D84845FB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B09-A48F-4A78-BCE4-555317B5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390-9E6D-483C-A0F2-B447317E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222-BA72-48C2-ABB3-DE5C0170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FD80-0CFE-4CCB-854C-08A2DE049E7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2558-F18F-4EFF-9D06-38C73EB511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AA53-1479-4918-BB25-D9B0D6BCD6B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9226-D592-46B2-AD24-DDB571C526C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0462-1149-493B-8819-1AC1356422C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7" descr=""/>
          <p:cNvPicPr/>
          <p:nvPr/>
        </p:nvPicPr>
        <p:blipFill>
          <a:blip r:embed="rId1"/>
          <a:stretch/>
        </p:blipFill>
        <p:spPr>
          <a:xfrm>
            <a:off x="1432080" y="828720"/>
            <a:ext cx="7132320" cy="26208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8" descr=""/>
          <p:cNvPicPr/>
          <p:nvPr/>
        </p:nvPicPr>
        <p:blipFill>
          <a:blip r:embed="rId2"/>
          <a:stretch/>
        </p:blipFill>
        <p:spPr>
          <a:xfrm>
            <a:off x="1743120" y="3322800"/>
            <a:ext cx="6437160" cy="14014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4071960" y="492912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 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латова Светла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БОУ «Солнечн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3895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1285920" y="714240"/>
            <a:ext cx="6840360" cy="50940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ются незаряженными частиц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4"/>
          <p:cNvSpPr/>
          <p:nvPr/>
        </p:nvSpPr>
        <p:spPr>
          <a:xfrm>
            <a:off x="2071800" y="233352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5"/>
          <p:cNvSpPr/>
          <p:nvPr/>
        </p:nvSpPr>
        <p:spPr>
          <a:xfrm>
            <a:off x="2071800" y="327816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2643120" y="2143080"/>
            <a:ext cx="500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ейт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т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14"/>
          <p:cNvSpPr/>
          <p:nvPr/>
        </p:nvSpPr>
        <p:spPr>
          <a:xfrm>
            <a:off x="2098800" y="428616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b9f25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1332000" y="792000"/>
            <a:ext cx="6840360" cy="10357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ический ток в твердых металлах представляет собой 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2286000" y="2008080"/>
            <a:ext cx="631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тречное движение ионов и электр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тречное движение протонов и электр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ное движение электр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вижение прот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9"/>
          <p:cNvSpPr/>
          <p:nvPr/>
        </p:nvSpPr>
        <p:spPr>
          <a:xfrm>
            <a:off x="2409840" y="2125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2409840" y="271152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2"/>
          <p:cNvSpPr/>
          <p:nvPr/>
        </p:nvSpPr>
        <p:spPr>
          <a:xfrm>
            <a:off x="2428920" y="396720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2422440" y="328608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b9f25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1332000" y="792000"/>
            <a:ext cx="6840360" cy="8809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заряд проходит через спираль электрической лампы за 10 минут при силе тока 0,5 (А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2286000" y="2008080"/>
            <a:ext cx="631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0 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00 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00 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00 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9"/>
          <p:cNvSpPr/>
          <p:nvPr/>
        </p:nvSpPr>
        <p:spPr>
          <a:xfrm>
            <a:off x="2409840" y="2125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11"/>
          <p:cNvSpPr/>
          <p:nvPr/>
        </p:nvSpPr>
        <p:spPr>
          <a:xfrm>
            <a:off x="2409840" y="256716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2409840" y="342900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13"/>
          <p:cNvSpPr/>
          <p:nvPr/>
        </p:nvSpPr>
        <p:spPr>
          <a:xfrm>
            <a:off x="2417760" y="29862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b9f25"/>
                                      </p:to>
                                    </p:animClr>
                                    <p:set>
                                      <p:cBhvr>
                                        <p:cTn id="23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1332000" y="792000"/>
            <a:ext cx="6840360" cy="12697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пределить сопротивление спирали лампы от карманного фонаря, если при напряжении 3,5 В сила тока в ней 0,28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2286000" y="2008080"/>
            <a:ext cx="631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,5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1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9"/>
          <p:cNvSpPr/>
          <p:nvPr/>
        </p:nvSpPr>
        <p:spPr>
          <a:xfrm>
            <a:off x="2430360" y="256536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11"/>
          <p:cNvSpPr/>
          <p:nvPr/>
        </p:nvSpPr>
        <p:spPr>
          <a:xfrm>
            <a:off x="2430360" y="298764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2"/>
          <p:cNvSpPr/>
          <p:nvPr/>
        </p:nvSpPr>
        <p:spPr>
          <a:xfrm>
            <a:off x="2424240" y="3860640"/>
            <a:ext cx="287280" cy="28764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13"/>
          <p:cNvSpPr/>
          <p:nvPr/>
        </p:nvSpPr>
        <p:spPr>
          <a:xfrm>
            <a:off x="2430360" y="34290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1332000" y="792000"/>
            <a:ext cx="6840360" cy="8809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Нихромовый проводник длиной 5м и площадью поперечного сечения 0,75 мм2 обладает сопротив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2286000" y="2008080"/>
            <a:ext cx="631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,3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3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0 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9"/>
          <p:cNvSpPr/>
          <p:nvPr/>
        </p:nvSpPr>
        <p:spPr>
          <a:xfrm>
            <a:off x="2430360" y="256536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11"/>
          <p:cNvSpPr/>
          <p:nvPr/>
        </p:nvSpPr>
        <p:spPr>
          <a:xfrm>
            <a:off x="2430360" y="298764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12"/>
          <p:cNvSpPr/>
          <p:nvPr/>
        </p:nvSpPr>
        <p:spPr>
          <a:xfrm>
            <a:off x="2424240" y="3860640"/>
            <a:ext cx="287280" cy="28764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13"/>
          <p:cNvSpPr/>
          <p:nvPr/>
        </p:nvSpPr>
        <p:spPr>
          <a:xfrm>
            <a:off x="2430360" y="34290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28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1332000" y="792000"/>
            <a:ext cx="6840360" cy="8809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Какова мощность электрического тока в электрической плите при напряжении 2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20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В и силе тока 2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2286000" y="2008080"/>
            <a:ext cx="631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0  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 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,1 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к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9"/>
          <p:cNvSpPr/>
          <p:nvPr/>
        </p:nvSpPr>
        <p:spPr>
          <a:xfrm>
            <a:off x="2430360" y="256536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1"/>
          <p:cNvSpPr/>
          <p:nvPr/>
        </p:nvSpPr>
        <p:spPr>
          <a:xfrm>
            <a:off x="2430360" y="298764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12"/>
          <p:cNvSpPr/>
          <p:nvPr/>
        </p:nvSpPr>
        <p:spPr>
          <a:xfrm>
            <a:off x="2424240" y="3860640"/>
            <a:ext cx="287280" cy="28764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3"/>
          <p:cNvSpPr/>
          <p:nvPr/>
        </p:nvSpPr>
        <p:spPr>
          <a:xfrm>
            <a:off x="2430360" y="34290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b9f25"/>
                                      </p:to>
                                    </p:animClr>
                                    <p:set>
                                      <p:cBhvr>
                                        <p:cTn id="31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1785960" y="928800"/>
            <a:ext cx="464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99920" y="57168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Источники: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793908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74840" indent="-457200"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Кабардин О.Ф., Кабардина С.И, Орлов В.А. Контрольные и проверочные работы по физике 7-11 классы. Методическое пособие для учителей – М.: Издательский дом «Дрофа», 1997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4840" indent="-457200"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Лукашик В.И. Сборник задач по физике: Учеб.пособие для учащихся 7 – 8 кл – М.: Просвещение, 1994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4840" indent="-457200"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Сборник задач по физике 7-9 классы Издательство «Экзамен» Москва 2011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4840" indent="-457200"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haroni"/>
              </a:rPr>
              <a:t>Тесты по физике. К учебнику А.В. Перышкина «Физика 7 класс»  (М.; Дроф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74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1571760" y="1444680"/>
            <a:ext cx="5786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СТРУКЦ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ирование по теме:  «Электрические явления». Данный тест может быть  использован  при закреплении и контроле знаний по физике в 8 классе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Учащимся предлагается ответить на вопросы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ответ верный, то при нажатии на ответ, надпись окрашивается в зеленый цвет, в противном случае надпись окрашивается в красный цвет или исчез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1332000" y="792000"/>
            <a:ext cx="6840360" cy="9147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ела взаимно отталкиваются, то это значит, что они заряжены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2286000" y="2008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нои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ои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9"/>
          <p:cNvSpPr/>
          <p:nvPr/>
        </p:nvSpPr>
        <p:spPr>
          <a:xfrm>
            <a:off x="2409840" y="2125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2409840" y="256716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2"/>
          <p:cNvSpPr/>
          <p:nvPr/>
        </p:nvSpPr>
        <p:spPr>
          <a:xfrm>
            <a:off x="2409840" y="342900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13"/>
          <p:cNvSpPr/>
          <p:nvPr/>
        </p:nvSpPr>
        <p:spPr>
          <a:xfrm>
            <a:off x="2417760" y="29862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53333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357200" y="792000"/>
            <a:ext cx="6840720" cy="103572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заряженные тела взаимно притягиваются, значит они заряжены 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2286000" y="2008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нои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ои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9"/>
          <p:cNvSpPr/>
          <p:nvPr/>
        </p:nvSpPr>
        <p:spPr>
          <a:xfrm>
            <a:off x="2409840" y="2125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1"/>
          <p:cNvSpPr/>
          <p:nvPr/>
        </p:nvSpPr>
        <p:spPr>
          <a:xfrm>
            <a:off x="2409840" y="256716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2"/>
          <p:cNvSpPr/>
          <p:nvPr/>
        </p:nvSpPr>
        <p:spPr>
          <a:xfrm>
            <a:off x="2409840" y="342900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3"/>
          <p:cNvSpPr/>
          <p:nvPr/>
        </p:nvSpPr>
        <p:spPr>
          <a:xfrm>
            <a:off x="2417760" y="29862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5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1332000" y="792000"/>
            <a:ext cx="6840360" cy="111744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порядоченным движением каких частиц создается электрический ток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етал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2286000" y="2008080"/>
            <a:ext cx="59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х 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х 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х и отрицательных 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9"/>
          <p:cNvSpPr/>
          <p:nvPr/>
        </p:nvSpPr>
        <p:spPr>
          <a:xfrm>
            <a:off x="2409840" y="2125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1"/>
          <p:cNvSpPr/>
          <p:nvPr/>
        </p:nvSpPr>
        <p:spPr>
          <a:xfrm>
            <a:off x="2409840" y="256716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2"/>
          <p:cNvSpPr/>
          <p:nvPr/>
        </p:nvSpPr>
        <p:spPr>
          <a:xfrm>
            <a:off x="2409840" y="3429000"/>
            <a:ext cx="287280" cy="2872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3"/>
          <p:cNvSpPr/>
          <p:nvPr/>
        </p:nvSpPr>
        <p:spPr>
          <a:xfrm>
            <a:off x="2417760" y="29862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1314360" y="739800"/>
            <a:ext cx="6840720" cy="56988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ются отрицательно заряженными частиц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857240" y="178596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3"/>
          <p:cNvSpPr/>
          <p:nvPr/>
        </p:nvSpPr>
        <p:spPr>
          <a:xfrm>
            <a:off x="1571760" y="164304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4"/>
          <p:cNvSpPr/>
          <p:nvPr/>
        </p:nvSpPr>
        <p:spPr>
          <a:xfrm>
            <a:off x="1571760" y="25002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7"/>
          <p:cNvSpPr/>
          <p:nvPr/>
        </p:nvSpPr>
        <p:spPr>
          <a:xfrm>
            <a:off x="1577880" y="292428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2050920" y="1542960"/>
            <a:ext cx="6521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йт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т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то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11"/>
          <p:cNvSpPr/>
          <p:nvPr/>
        </p:nvSpPr>
        <p:spPr>
          <a:xfrm>
            <a:off x="1571760" y="207180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f5e16"/>
                                      </p:to>
                                    </p:animClr>
                                    <p:set>
                                      <p:cBhvr>
                                        <p:cTn id="8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9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3895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1285920" y="714240"/>
            <a:ext cx="6840360" cy="50940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единица измерения силы 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4"/>
          <p:cNvSpPr/>
          <p:nvPr/>
        </p:nvSpPr>
        <p:spPr>
          <a:xfrm>
            <a:off x="2000160" y="25002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5"/>
          <p:cNvSpPr/>
          <p:nvPr/>
        </p:nvSpPr>
        <p:spPr>
          <a:xfrm>
            <a:off x="2000160" y="305424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6"/>
          <p:cNvSpPr/>
          <p:nvPr/>
        </p:nvSpPr>
        <p:spPr>
          <a:xfrm>
            <a:off x="2021040" y="426708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2500200" y="2357280"/>
            <a:ext cx="5000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п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т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14"/>
          <p:cNvSpPr/>
          <p:nvPr/>
        </p:nvSpPr>
        <p:spPr>
          <a:xfrm>
            <a:off x="2000160" y="358128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3895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1203480" y="717480"/>
            <a:ext cx="6840360" cy="9147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единица измерения электрического сопроти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4"/>
          <p:cNvSpPr/>
          <p:nvPr/>
        </p:nvSpPr>
        <p:spPr>
          <a:xfrm>
            <a:off x="2000160" y="250020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5"/>
          <p:cNvSpPr/>
          <p:nvPr/>
        </p:nvSpPr>
        <p:spPr>
          <a:xfrm>
            <a:off x="2000160" y="305424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6"/>
          <p:cNvSpPr/>
          <p:nvPr/>
        </p:nvSpPr>
        <p:spPr>
          <a:xfrm>
            <a:off x="2021040" y="426708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2500200" y="2357280"/>
            <a:ext cx="5000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п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т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4"/>
          <p:cNvSpPr/>
          <p:nvPr/>
        </p:nvSpPr>
        <p:spPr>
          <a:xfrm>
            <a:off x="2000160" y="358128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6331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3895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1285920" y="714240"/>
            <a:ext cx="6840360" cy="914760"/>
          </a:xfrm>
          <a:prstGeom prst="roundRect">
            <a:avLst>
              <a:gd name="adj" fmla="val 16667"/>
            </a:avLst>
          </a:prstGeom>
          <a:solidFill>
            <a:srgbClr val="4e8542"/>
          </a:solidFill>
          <a:ln w="42480">
            <a:solidFill>
              <a:srgbClr val="376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кой формулой выражается закон Ома для участка це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4"/>
          <p:cNvSpPr/>
          <p:nvPr/>
        </p:nvSpPr>
        <p:spPr>
          <a:xfrm>
            <a:off x="2000160" y="2789280"/>
            <a:ext cx="287280" cy="28872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5"/>
          <p:cNvSpPr/>
          <p:nvPr/>
        </p:nvSpPr>
        <p:spPr>
          <a:xfrm>
            <a:off x="1996920" y="3716280"/>
            <a:ext cx="28764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2643120" y="2143080"/>
            <a:ext cx="5000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=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14"/>
          <p:cNvSpPr/>
          <p:nvPr/>
        </p:nvSpPr>
        <p:spPr>
          <a:xfrm>
            <a:off x="2019240" y="4794120"/>
            <a:ext cx="287280" cy="289080"/>
          </a:xfrm>
          <a:prstGeom prst="ellipse">
            <a:avLst/>
          </a:prstGeom>
          <a:solidFill>
            <a:srgbClr val="e6d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f2936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b9f25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15:52:17Z</dcterms:created>
  <dc:creator>Платова С.А.</dc:creator>
  <dc:description/>
  <dc:language>en-US</dc:language>
  <cp:lastModifiedBy>Светлана Алексеевна</cp:lastModifiedBy>
  <dcterms:modified xsi:type="dcterms:W3CDTF">2025-10-27T07:17:11Z</dcterms:modified>
  <cp:revision>83</cp:revision>
  <dc:subject/>
  <dc:title>Слайд 1</dc:title>
</cp:coreProperties>
</file>